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A98-99D3-4594-902E-48373D9A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E42-9581-45A0-9328-65902C82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9DB-4BDD-4D4A-BA19-BE0114E7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E22-455B-4969-8B4C-F6B23FD8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2ED-3CFE-4590-BD22-769A56C6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BDC-1CAA-457B-9C20-7073D2D5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330-BE4C-4136-9BD4-E39342DC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A02-F030-4DDE-B904-73BC11D3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592-9BE6-41BD-AD86-0F884303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0E4-6227-44A4-93E4-F412ABF9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5B4-4F93-48E5-8DDF-573BF599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3F0-5730-4AA3-985E-8B3EFBB2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9664-4B38-44C5-8E90-5D51617C2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ลุ่มที่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ารพัฒนาคณาจารย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นโยบายต้องชัด ทุกระดับ และต้องแตกในทุกประเด็น ครอบคลุมในด้านงบประมาณ ระยะ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พยายามทำให้งานวิจัยเป็นงานประจำให้เป็นระบ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ทำงานวิจัยแบบทีม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365720"/>
            <a:ext cx="82296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หาวิทยาลัยวลัยลักษณ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นำเอ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Based Learning : PBL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าประยุกต์ใช้ให้เหมาะสม ทำให้นักศึกษาสนใจในการเรียน กล้าแสดงออกมากขึ้นเกิดการทำงานเป็นทีม  นอกจากนี้ส่งผลให้อาจารย์เกิ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มหาวิทยาลัยมหิด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รวมพลังอาจารย์มหาวิทยาลัยจัดกิจกรรมร่วมกัน มีเครือข่ายในทุกๆด้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ิจกรรมพัฒนาความสัมพันธ์ระหว่างอาจารย์ เพื่อสร้างแนวคิดในการบูรณาการด้านการจัดการเรียนการสอน สร้างความสัมพันธ์กับเครือข่ายทั้งมหาวิทยาลัย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07664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หาวิทยาลัยนเรศว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นโยบายผู้บริหารชัดเจ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จัดสรรงบประมาณเรื่องต่างๆ อยู่ในระดับที่รับได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เสริมแรง การให้ค่าตอบแทน โบนั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มหาวิทยาลัยสงขลานครินทร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วิทยาเขตตรัง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คณะกรรมการสนับสนุนงานวิจัย ซึ่งก็คืออาจารย์ในสาขาในการขับเคลื่อนพัฒนางานวิจัยเชื่อมโยงกับวิทยาเขตอื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ทำงานวิจัยเป็นทีม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ระบบพี่เลี้ยง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นโยบายชัดเจน มีเงินทุนสนับสนุนด้านงาน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มาตรฐานกำหนดตำแหน่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ต้องมีผลงาน หรื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ต้องมีผล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วิทยาเขตปัตตานี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หาวิทยาลัยมีวารสารเพื่อให้อาจารย์นำผลงานมาตีพิมพ์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อาจารย์ที่เป็นนักวิจัยหน้าใหม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นโยบายชัดเจน ออกเป็นประกา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หาวิทยาลัยราชภัฏมหาสารคา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ทำงานวิจัยร่วมกัน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)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หว่างคณะต่างๆ ในมหาวิทยาลัย เช่น คณะเกษตรฯ ร่วมกับ คณะวิทยาการจัด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น้นให้บริการสู่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ให้อาจารย์ร่วมกับสถาบันทั้งในและนอกประเทศ เพื่อแลกเปลี่ยนอาจารย์เป็นการสร้างเครือข่ายแลกเปลี่ยนเรียนรู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ัดกิจกรรมให้อาจารย์มีจิตสำนึกคุณธรรมในการเป็นอาจารย์  รักลูกศิษย์เหมือนลูกตัวเ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จัดท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book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ลดการใช้ทรัพยากร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รายชื่อสมาชิ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รอนงค์    ขันเดช มหาวิทยาลัยราชภัฎ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ยนุวัฒศิริ       พุทธิดิลก มหาวิทยาลัยราชภัฎ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ยอำนวย         วิชัยวงษ์ มหาวิทยาลัยราชภัฎ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ยนันทวัฒน์    ฟองมณีมหาวิทยาลัยวลัยลักษ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ดร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ุรสีห์    วัฒนวิกย์กิจมหาวิทยาลัยวลัยลักษ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ิชาภา        ชัยชาญมหาวิทยาลัย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งสโรชา           อ้องแสนคำวิทยาลัยบัณฑิตศึกษาการจัดการ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BA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ปิติกานต์      จันทร์แย้มมหาวิทยาลัยสงขลานครินทร์วิทยาเขตตรั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งพิสมัย           เพียรเจริญมหาวิทยาลัยสงขลานครินทร์วิทยาเขตปัตตาน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พญ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ุพินดา  คูณมี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ผ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ุนันทา         วิบูลย์จันทร์มหาวิทยาลัยมหิด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มบูรณ์           เทียนายา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ดร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พ็ญศิริ     นภีรงค์มหาวิทยาลัยนเรศว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ชาญชัย             รัตนวิบูลย์มหาวิทยาลัยนเรศว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ดร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ัญญา         ร้อยสมมุติ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พัฒนาการคณาจารย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ฐมนิเทศ และอบรมอาจารย์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บบพี่เลี้ยงสำหรับอาจารย์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ุนพัฒนาอาจารย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ึกษาต่อระดับปริญญาเอกหรือสูงกว่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องทุนตำร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ุนวิจัยเสนอผลงานทางวิชา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ำนักนวัตกรรมการเรียนการส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บบการประเมินบุคลากร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บบประเมินการเรียนการสอนโดยนักศึกษาผ่านออนไลน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รับระบบค่าตอบแท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ถาบันพัฒนาทรัพยากรมนุษย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รณีคณะแพทยศาสตร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น้นด้านคุณธรรม จริยธ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ฝึกอบรมด้านการเรียนการสอน และการให้บริ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มหิด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ด้าน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ุนสนับสนุน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าจารย์พี่เลี้ยงนักวิจัย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ีมวิจัย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ร้างเครือข่ายวิจัยร่ว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ัดเวที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ด้านการเรียนการส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นโยบาย ด้านอาจารย์ใหม่เข้ารับการฝึกอบรมด้านการเรียนการสอน โดยใช้แนวคิ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แพทยศาสตร์ศึกษ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ุ่นๆล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น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าจารย์ใหม่อายุงานต่ำกว่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าจารย์เก่าจะต้องเข้ารับการอบรมทุก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ึกษาดูงา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บรมด้านการศึกษาโดยคณะหน่วยงานให้การสนับสนุน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สงขลานครินทร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ได้รับทุนการศึกษาจากสกอ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ฉพาะวิทยาเขตปัตตานี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บทเรียนสำหรับอาจารย์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– Boo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ารแลกเปลี่ยนเรียนรู้ด้านการพัฒนาอาจารย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เรียนการสอนระหว่างวิทยาเข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ค่าตอบแทนให้กับอาจารย์วุฒิปริญญาเอกในแต่ละวิทยาเขต เช่น วิทยาเขตปัตตานี ได้รับค่าตอบแท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,000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บาท วิทยาเขตหาดใหญ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,000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บาท โดยมีเงื่อนไขว่าต้องมีอายุการทำงา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ปีขึ้นไ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นเรศว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นับสนุนการพัฒนาด้านภาษาอังกฤษ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อ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FL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พื่อเรียนต่อต่างประเทศ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ระบบการให้รางวัลแก่ผู้ที่ได้รับตำแหน่งทางวิชาการ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าสตราจารย์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ฝึกอบรมด้านการเรียนการสอนอย่างสม่ำเสม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่งเสริมการเรียนต่อในระดั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Doctoral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โดยมหาวิทยาลัยให้ทุนสนับสนุ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รรหาอาจารย์ที่เรียนจบปริญญาเอกเพื่อพัฒนาเป็นมหาวิทยาลัยแห่ง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ะมีเงินรางวัลให้กับผู้ได้รับตำแหน่งทางวิชาการระดับศาสตราจารย์ จำนว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,000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บา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มหาวิทยาลัยราชภัฏมหาสารคา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น้นชุมชน พัฒนาชุมชน ให้ชุมชนมีส่วนร่ว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ัดทำแผนพัฒนาบุคลากรด้านการวิจัย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น้นชุมชน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การศึกษาต่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ระตุ้นให้อาจารย์มีจิตสำนึกรักชุมช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งเสริมให้อาจารย์มีวัฒนธรรมที่ด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ระบบประเมินอาจารย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งเสริมให้อาจารย์มีการอบร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ปฐมนิเทศอาจารย์ใหม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ารแลกเปลี่ยนอาจารย์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ากประเทศเยอรมันนี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ารแลกเปลี่ยนนักศึกษา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ยอรมั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วียดนาม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วลัยลักษณ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นโยบายหลัก พัฒนาอาจารย์ปริญญาเอก จากเดิ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%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เป็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ภายใ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2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รับอาจารย์ใหม่ถ้าไม่มีประสบการณ์ต้องนำเสนอผลงานวิชาการเพื่อเป็นข้อมูลในการพัฒน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ศึกษาต่อ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จะถามความพร้อม ให้เวล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เพื่อการพัฒนาเพื่อบรรจุเป็นอาจารย์ประจำ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ประเมินจะประเมินปีล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ครั้ง เพื่อปรับเป็นอาจารย์ประจ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ทุน มีทุนอบร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-15,000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บาทต่อปี บางรา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,000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ต่อป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บรม จะมีโปรแกรมสนับสนุนด้านการออกข้อสอบกับการเรียนการสอ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BL / e-learning / M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บรมภาษาอังกฤ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ทักษะด้า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(power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ศูนย์สอ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8:16Z</dcterms:created>
  <dc:creator>User</dc:creator>
  <dc:description/>
  <dc:language>en-US</dc:language>
  <cp:lastModifiedBy>User</cp:lastModifiedBy>
  <dcterms:modified xsi:type="dcterms:W3CDTF">2010-03-22T09:00:20Z</dcterms:modified>
  <cp:revision>4</cp:revision>
  <dc:subject/>
  <dc:title>กลุ่มที่ 1 การพัฒนาคณาจารย์</dc:title>
</cp:coreProperties>
</file>